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24A-53A0-456B-8559-26FEE3C5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2B2-9E24-4D8F-B24C-092DDE3A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98C-45BF-41FE-9C11-5353C439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4C4-F836-481A-8728-8F879F76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869-DD8D-4145-B697-9B82378C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128-57B3-4902-B946-C148C291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64B-B939-41BD-BF5B-CC0CDCD3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57A-D283-41AD-BA07-ACFB30A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26E-FDDB-4FA2-B313-9E6ECEDD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EAC-354C-410D-997C-107E306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A4C-2992-4986-9BE0-745D008A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B1C-4238-4637-BE87-F415D098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1218-4033-4210-85CD-2DDB46A4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Wesley Dever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Xavier woods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oint on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90   point behind a number in a number sentence that separates the whole number from the fractional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Barnyard Buddies Check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ss p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you make before de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alance out different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10:41Z</dcterms:created>
  <dc:creator>WESLEY.DEVER</dc:creator>
  <dc:description/>
  <dc:language>en-US</dc:language>
  <cp:lastModifiedBy>WESLEY.DEVER</cp:lastModifiedBy>
  <dcterms:modified xsi:type="dcterms:W3CDTF">2010-11-23T14:31:02Z</dcterms:modified>
  <cp:revision>2</cp:revision>
  <dc:subject/>
  <dc:title>Wesley Dever  Xavier woods </dc:title>
</cp:coreProperties>
</file>